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CD03-3FBF-4505-B1B2-3DD534405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D4CB-A350-402D-9317-48AA412B9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78A3-2DD0-4B76-8250-B5E522D54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85DD-573B-48C6-81B9-745047A23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EC64-C597-4170-84F1-030B476DC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98EA-708C-4346-AA39-04845AFA9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BAD1-0787-4B9E-8444-9FDF8DD9A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4D44-AA0A-4C82-82E0-95153BC56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6262-9AD3-4309-82F8-0D9CE0424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AF3C-138E-4E5A-8B4D-A02C6294A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16F9-03C8-4DFF-9526-85FA1DB1D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EF97-3D04-433C-8B13-23ED9368E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D19BE-C28F-4E62-8EA3-D1A7FDB2D2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 rot="533400">
            <a:off x="-612720" y="1844280"/>
            <a:ext cx="9144000" cy="263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gaur egungo etorkin latinoamerikarrak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0T13:04:26Z</dcterms:created>
  <dc:creator>ik015111zz</dc:creator>
  <dc:description/>
  <dc:language>en-US</dc:language>
  <cp:lastModifiedBy>ik015111zz</cp:lastModifiedBy>
  <dcterms:modified xsi:type="dcterms:W3CDTF">2012-05-10T13:20:24Z</dcterms:modified>
  <cp:revision>2</cp:revision>
  <dc:subject/>
  <dc:title>Diapositiva 1</dc:title>
</cp:coreProperties>
</file>